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1EB2-D871-4330-914F-60B5449A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915-0733-4007-BD93-8C846955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B69-F474-4E81-B015-2F7D57EB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6D0-7970-4ACD-943F-1625EC19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713-A723-4A22-810C-352CDA21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73FF-CC87-47ED-9ABD-E9147487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B5A-57AB-4781-8904-71126AF9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16AC-D599-4CE0-9059-DBAB5836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19B3-7C1F-40B1-B6BC-6EEDF999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BBD1-672A-4BCF-B0A4-13F2F63C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1C7E-C79D-4131-B9F4-23DF2514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B1F3-B5A3-4A72-AF63-4626F898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03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4FB1-1232-42E1-9C7D-25929C3003BA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2880" y="4857480"/>
            <a:ext cx="64008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e4b038"/>
                </a:solidFill>
                <a:latin typeface="Arial"/>
                <a:ea typeface="Arial"/>
              </a:rPr>
              <a:t>Ivan Brajovi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e4b038"/>
                </a:solidFill>
                <a:latin typeface="Arial"/>
                <a:ea typeface="Arial"/>
              </a:rPr>
              <a:t>Ministar saobraćaja i pomor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285920" y="2357280"/>
            <a:ext cx="6429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e4b038"/>
                </a:solidFill>
                <a:latin typeface="Arial"/>
              </a:rPr>
              <a:t>“</a:t>
            </a:r>
            <a:r>
              <a:rPr b="1" i="1" lang="hr-HR" sz="2800" spc="-1" strike="noStrike">
                <a:solidFill>
                  <a:srgbClr val="e4b038"/>
                </a:solidFill>
                <a:latin typeface="Arial"/>
              </a:rPr>
              <a:t>Plan redovnog i investicionog održavanja, rekonstrukcije i izgradnje državnih puteva u 2014. godin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4b038"/>
                </a:solidFill>
                <a:latin typeface="Arial"/>
              </a:rPr>
              <a:t>Četvrtak, 6. mart 2014. god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68000" y="35676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28760" y="2143080"/>
            <a:ext cx="82864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Program sanacija mostova, klizišta i kosina na magistralnim i regionalnim putevima</a:t>
            </a: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, za nastavak realizacije ovog programa u 2014. godini opredijeljena su sredstva u iznosu od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1,5 miliona eura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i planirano je projektovanje i/ili sanacija na sledećim lokalitetima: </a:t>
            </a:r>
            <a:r>
              <a:rPr b="0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e4b038"/>
                </a:solidFill>
                <a:latin typeface="Arial"/>
                <a:ea typeface="Arial"/>
              </a:rPr>
              <a:t>Rekonstrukcija 8 mostova na regionalnom putu R-10 </a:t>
            </a:r>
            <a:r>
              <a:rPr b="0" lang="sr-Latn-CS" sz="2000" spc="-1" strike="noStrike">
                <a:solidFill>
                  <a:srgbClr val="e4b038"/>
                </a:solidFill>
                <a:latin typeface="Arial"/>
                <a:ea typeface="Arial"/>
              </a:rPr>
              <a:t> (Slijepač most – Tomaševo – Pljevlj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e4b038"/>
                </a:solidFill>
                <a:latin typeface="Arial"/>
                <a:ea typeface="Arial"/>
              </a:rPr>
              <a:t>Sanacija mosta Tmušići na dionici Berane – Roža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e4b038"/>
                </a:solidFill>
                <a:latin typeface="Arial"/>
                <a:ea typeface="Arial"/>
              </a:rPr>
              <a:t>Sanacija mosta (preko rijeke Plašnice) na putu Kolašin – Mojkova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e4b038"/>
                </a:solidFill>
                <a:latin typeface="Arial"/>
                <a:ea typeface="Arial"/>
              </a:rPr>
              <a:t>Sanacija nestabilne kosine na dionici puta Podgorica –Kolaš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e4b038"/>
                </a:solidFill>
                <a:latin typeface="Arial"/>
                <a:ea typeface="Arial"/>
              </a:rPr>
              <a:t>Rekonstrukcija puta – sanacija klizišta na dionici Bar – Ulcinj, lokalitet “Kruče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4b038"/>
                </a:solidFill>
                <a:latin typeface="Calibri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286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4b038"/>
                </a:solidFill>
                <a:latin typeface="Calibri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Rješavanje uskih grla na saobraćajnoj mreži Crne Gore,ukupne vrijednosti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4,7 miliona eura</a:t>
            </a:r>
            <a:r>
              <a:rPr b="1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, </a:t>
            </a: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podrazumijeva nastavak realizacije obilaznica oko većih gradova i to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Nikšić II faz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Rožaje II faz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Golubovci III faz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kao </a:t>
            </a:r>
            <a:r>
              <a:rPr b="0" i="1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i</a:t>
            </a: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 izgradnja bulevara od Budve do Bečića sa rekonstrukcijom raskrsnice Budva-Cetinje-Bečići</a:t>
            </a:r>
            <a:r>
              <a:rPr b="0" i="1" lang="en-US" sz="2200" spc="-1" strike="noStrike">
                <a:solidFill>
                  <a:srgbClr val="898989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286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4b038"/>
                </a:solidFill>
                <a:latin typeface="Calibri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Izgradnja tunela Tifra</a:t>
            </a:r>
            <a:r>
              <a:rPr b="1" i="1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-  </a:t>
            </a: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za ove namjene je iz Budžeta Crne Gore u ovoj godini zdvojeno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1,2  miliona eura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Radovi koji su počeli u 2011. godini nijesu vršeni u kontinuitetu zbog organizacionog problema Izvođača radova. U 2014. godini, kada dozvole vremenski uslovi, nastaviće se sa radovima na izradi porta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286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Investiciono održavanje regionalnih </a:t>
            </a:r>
            <a:r>
              <a:rPr b="1" i="1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i</a:t>
            </a:r>
            <a:r>
              <a:rPr b="1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 magistralnih puteva: nadzor, projektovanje, eksproprijacija, revizije </a:t>
            </a: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- </a:t>
            </a: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za ove namjene iz Budžeta Crne Gore izdvojeno je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1,8 miliona eura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za izradu građevinskih projekata za rekonstrukcije puteva i sanacije objekata, revizije projekata, eksproprijaciju zemljišta, vršenje građevinskog nadzora na radovima rekonstrukcija i sanacija i za manje rekonstrukcije rasvjete u tunelima. </a:t>
            </a:r>
            <a:r>
              <a:rPr b="0" i="1" lang="en-US" sz="2200" spc="-1" strike="noStrike">
                <a:solidFill>
                  <a:srgbClr val="e4b038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4b038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286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Izgradnja saobraćajnih traka za spora vozila (tzv. treće trake), ukupna sredstva opredijeljena za realizaciju ovih projekata j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 milion 50 hiljada eura </a:t>
            </a:r>
            <a:r>
              <a:rPr b="1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i u planu su radovi na slijedećim lokacijam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Lokalitet Kuside, na magistralnom putu Nikšić – Vilusi 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Lokalitet  Slijepač most – Lepenac na dionici Mojkovac – Ribarev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286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b038"/>
                </a:solidFill>
                <a:latin typeface="Calibri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Program eliminisanja posljedica od poplava na magistralnim i regionalnim putevima, opredijeljena su sredstva u iznosu od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750 hiljada eura</a:t>
            </a:r>
            <a:r>
              <a:rPr b="1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, a prema planu u 2014. godini izvršiće se slijedeći radovi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Sanacija asfaltnih kolovoza – investiciono održavanje - presvlačenje asfaltnog kolovoz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Sanacija klizišta “Bać“ na magistralnom putu M-2, dionica Berane - Špiljan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286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ffc000"/>
                </a:solidFill>
                <a:latin typeface="Arial"/>
                <a:ea typeface="Arial"/>
              </a:rPr>
              <a:t>HVALA N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1" i="1" lang="sr-Latn-CS" sz="4800" spc="-1" strike="noStrike">
                <a:solidFill>
                  <a:srgbClr val="ffc000"/>
                </a:solidFill>
                <a:latin typeface="Arial"/>
                <a:ea typeface="Arial"/>
              </a:rPr>
              <a:t>PAŽNJI !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c000"/>
                </a:solidFill>
                <a:latin typeface="Arial"/>
                <a:ea typeface="Arial"/>
              </a:rPr>
              <a:t>PR Služba Ministarstva saobraćaja i pomor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+ 382 20 482 1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680" y="2214720"/>
            <a:ext cx="82864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Arial"/>
                <a:ea typeface="Arial"/>
              </a:rPr>
              <a:t>U protekloj deceniji u održavanje, rekonstrukciju i izgradnju državnih puteva (devet magistralnih i dvadeset tri regionalna puta dužine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1.847,74 km </a:t>
            </a:r>
            <a:r>
              <a:rPr b="0" lang="en-US" sz="2200" spc="-1" strike="noStrike">
                <a:solidFill>
                  <a:srgbClr val="ffc000"/>
                </a:solidFill>
                <a:latin typeface="Arial"/>
                <a:ea typeface="Arial"/>
              </a:rPr>
              <a:t>uloženo je preko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300 miliona eura</a:t>
            </a:r>
            <a:r>
              <a:rPr b="0" lang="en-US" sz="2200" spc="-1" strike="noStrike">
                <a:solidFill>
                  <a:srgbClr val="ffc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Arial"/>
                <a:ea typeface="Arial"/>
              </a:rPr>
              <a:t>Nesporno je da je broj poginulih u Crnoj Gori u konstantnom padu, te da je u 2012. godini  skoro tri puta manji nego u 2007 godini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Arial"/>
                <a:ea typeface="Arial"/>
              </a:rPr>
              <a:t>U </a:t>
            </a:r>
            <a:r>
              <a:rPr b="0" lang="sr-Latn-CS" sz="2200" spc="-1" strike="noStrike">
                <a:solidFill>
                  <a:srgbClr val="ffc000"/>
                </a:solidFill>
                <a:latin typeface="Arial"/>
                <a:ea typeface="Arial"/>
              </a:rPr>
              <a:t>prilog tome </a:t>
            </a:r>
            <a:r>
              <a:rPr b="0" lang="en-US" sz="2200" spc="-1" strike="noStrike">
                <a:solidFill>
                  <a:srgbClr val="ffc000"/>
                </a:solidFill>
                <a:latin typeface="Arial"/>
                <a:ea typeface="Arial"/>
              </a:rPr>
              <a:t>je i Izvještaj Svjetskog ekonomskog foruma sadržan u Globalnom indeksu o konkurentnosti 2013-2014, koji je po kvalitetu putne infrastrukture Crnu Goru svrstao ispred država regiona (Srbija, Bosna i Hercegovina i Makedonija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8760" y="2214720"/>
            <a:ext cx="82864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Plan redovnog i investicionog održavanja, rekonstrukcije i izgradnje državnih puteva u 2014. </a:t>
            </a:r>
            <a:r>
              <a:rPr b="1" i="1" lang="sr-Latn-CS" sz="2400" spc="-1" strike="noStrike">
                <a:solidFill>
                  <a:srgbClr val="ffc000"/>
                </a:solidFill>
                <a:latin typeface="Arial"/>
                <a:ea typeface="Arial"/>
              </a:rPr>
              <a:t>g</a:t>
            </a:r>
            <a:r>
              <a:rPr b="1" i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odini, prema izvorima finansiranja, podijeljen  je u sljedeće cjel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Finansiranje iz Tekućeg budžeta Crne Gore -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9.989.309,00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Finansiranje iz Kapitalnog budžeta Crne Gore -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2.973.000,00 €</a:t>
            </a:r>
            <a:r>
              <a:rPr b="1" i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UKUPNO  ..................................................................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2.962.309, 00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28760" y="2071440"/>
            <a:ext cx="8286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4b038"/>
                </a:solidFill>
                <a:latin typeface="Arial"/>
                <a:ea typeface="Arial"/>
              </a:rPr>
              <a:t>Finansiranje iz Tekućeg budžeta Crne Gore -  9.989.309,00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b038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e4b0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4b038"/>
                </a:solidFill>
                <a:latin typeface="Arial"/>
                <a:ea typeface="Arial"/>
              </a:rPr>
              <a:t>Za redovno održavanje i zaštitu državnih puteva za 2014.</a:t>
            </a:r>
            <a:r>
              <a:rPr b="1" lang="en-US" sz="2000" spc="-1" strike="noStrike">
                <a:solidFill>
                  <a:srgbClr val="e4b038"/>
                </a:solidFill>
                <a:latin typeface="Arial"/>
                <a:ea typeface="Arial"/>
              </a:rPr>
              <a:t> godinu izdvojena su sredstva iz Tekućeg budžeta Crne Gore u iznosu o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9.689.309,00 eura</a:t>
            </a:r>
            <a:r>
              <a:rPr b="1" lang="en-US" sz="2000" spc="-1" strike="noStrike">
                <a:solidFill>
                  <a:srgbClr val="e4b038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4b038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e4b0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b038"/>
                </a:solidFill>
                <a:latin typeface="Arial"/>
                <a:ea typeface="Arial"/>
              </a:rPr>
              <a:t>Tekućim </a:t>
            </a:r>
            <a:r>
              <a:rPr b="1" lang="pl-PL" sz="2000" spc="-1" strike="noStrike">
                <a:solidFill>
                  <a:srgbClr val="e4b038"/>
                </a:solidFill>
                <a:latin typeface="Arial"/>
                <a:ea typeface="Arial"/>
              </a:rPr>
              <a:t>budžetom predviđena su takođe i sredstva za djelatnost </a:t>
            </a:r>
            <a:r>
              <a:rPr b="1" i="1" lang="pl-PL" sz="2000" spc="-1" strike="noStrike">
                <a:solidFill>
                  <a:srgbClr val="e4b038"/>
                </a:solidFill>
                <a:latin typeface="Arial"/>
                <a:ea typeface="Arial"/>
              </a:rPr>
              <a:t>Službe „Pomoć-informisanje na javnim putevima”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e4b038"/>
                </a:solidFill>
                <a:latin typeface="Arial"/>
                <a:ea typeface="Arial"/>
              </a:rPr>
              <a:t>Služba „Pomoć – informisanje na putu” </a:t>
            </a:r>
            <a:r>
              <a:rPr b="0" lang="pl-PL" sz="2000" spc="-1" strike="noStrike">
                <a:solidFill>
                  <a:srgbClr val="e4b038"/>
                </a:solidFill>
                <a:latin typeface="Arial"/>
                <a:ea typeface="Arial"/>
              </a:rPr>
              <a:t>je informisanje o stanju na putevima i pružanje tehničke pomoći motorizovanim učesnicima u saobraćaju na javnim putevima Crne Gore u toku dvadeset i četiri sata. </a:t>
            </a:r>
            <a:r>
              <a:rPr b="0" lang="en-US" sz="2000" spc="-1" strike="noStrike">
                <a:solidFill>
                  <a:srgbClr val="e4b038"/>
                </a:solidFill>
                <a:latin typeface="Arial"/>
                <a:ea typeface="Arial"/>
              </a:rPr>
              <a:t>Predviđena sredstva izno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00 hiljada eu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286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b038"/>
                </a:solidFill>
                <a:latin typeface="Calibri"/>
              </a:rPr>
              <a:t>Finansiranje iz Kapitalnog budžeta Crne Gore - </a:t>
            </a:r>
            <a:r>
              <a:rPr b="1" i="1" lang="en-US" sz="2200" spc="-1" strike="noStrike">
                <a:solidFill>
                  <a:srgbClr val="ffffff"/>
                </a:solidFill>
                <a:latin typeface="Calibri"/>
              </a:rPr>
              <a:t>42.973.000,00 €</a:t>
            </a: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1600" spc="-1" strike="noStrike">
                <a:solidFill>
                  <a:srgbClr val="e4b038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4b0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b038"/>
                </a:solidFill>
                <a:latin typeface="Calibri"/>
              </a:rPr>
              <a:t>Rekonstrukcija regionalnih i magistralnih puteva u Crnoj Gori ukupne vrijednosti 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11.800.000,00 eura </a:t>
            </a:r>
            <a:r>
              <a:rPr b="1" i="1" lang="en-US" sz="1800" spc="-1" strike="noStrike">
                <a:solidFill>
                  <a:srgbClr val="e4b038"/>
                </a:solidFill>
                <a:latin typeface="Calibri"/>
              </a:rPr>
              <a:t>i u sklopu ovog programa izvodiće se radovi na 8 lokalitet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b038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b038"/>
                </a:solidFill>
                <a:uFillTx/>
                <a:latin typeface="Calibri"/>
              </a:rPr>
              <a:t>Rekonstrukcija puta R-12 Vilusi-Vraćenovići, dionica Petrovići-Vraćenović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b038"/>
                </a:solidFill>
                <a:uFillTx/>
                <a:latin typeface="Calibri"/>
              </a:rPr>
              <a:t>Rekonstrukcija puta Berane-Kolašin, dionica Berane-Lubn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b038"/>
                </a:solidFill>
                <a:uFillTx/>
                <a:latin typeface="Calibri"/>
              </a:rPr>
              <a:t>Rekonstrukcija puta Berane-Kolašin, dionica Lubnice-Jeze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b038"/>
                </a:solidFill>
                <a:uFillTx/>
                <a:latin typeface="Calibri"/>
              </a:rPr>
              <a:t>Rekonstrukcija puta R-20 Berane-Trpezi-Kalače, dionica Berane-Petnj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b038"/>
                </a:solidFill>
                <a:uFillTx/>
                <a:latin typeface="Calibri"/>
              </a:rPr>
              <a:t>Rekonstrukcija puta R-10 Slijepač most-Tomaševo-Trlica, dionica Pavino polje-Kovr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b038"/>
                </a:solidFill>
                <a:uFillTx/>
                <a:latin typeface="Calibri"/>
              </a:rPr>
              <a:t>Rekonstrukcija puta R-3 Pljevlja-Metalj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b038"/>
                </a:solidFill>
                <a:uFillTx/>
                <a:latin typeface="Calibri"/>
              </a:rPr>
              <a:t>Rekonstrukcija puta M-2.4, dionica Ulcinj - Kru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b038"/>
                </a:solidFill>
                <a:uFillTx/>
                <a:latin typeface="Calibri"/>
              </a:rPr>
              <a:t>Rekonstrukcija puta M-18, dionica Tuzi-Pljoč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286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Rekonstrukcija i sanacija kritičnih tačaka ukupne vrijednosti </a:t>
            </a:r>
            <a:r>
              <a:rPr b="1" i="1" lang="sr-Latn-CS" sz="2200" spc="-1" strike="noStrike">
                <a:solidFill>
                  <a:srgbClr val="ffffff"/>
                </a:solidFill>
                <a:latin typeface="Arial"/>
                <a:ea typeface="Arial"/>
              </a:rPr>
              <a:t>500 hiljada eura</a:t>
            </a:r>
            <a:r>
              <a:rPr b="1" i="1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i="1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i u okviru ovih sredstava planirana je izrada tehničke dokumentacije i početak radova na najkritičnijim  dionicama. Dionice koje su predviđene ovim Programom su: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Šest (6) kritičnih tačaka na magistralnom putu Podgorica –Kolašin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Kritična tačka na magistralnom putu  Cetinje – Budva </a:t>
            </a:r>
            <a:r>
              <a:rPr b="0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Sanacija nestabilne kosine, dionica Nikšić - Danilovgrad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Sanacija nestabilne kosine poslije tunela broj 59 takođe na dionici puta  Nikšić – Danilovgrad</a:t>
            </a:r>
            <a:r>
              <a:rPr b="0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e4b038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286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e4b038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Otplata duga za put RISAN – ŽABLJAK, </a:t>
            </a:r>
            <a:r>
              <a:rPr b="0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finansijska sredstva izdvojena za ovaj program iznos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1 miliona 373 hiljade eur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Autoput Bar-Boljare, dionica Smokovac – Mateševo </a:t>
            </a:r>
            <a:r>
              <a:rPr b="1" i="1" lang="sr-Latn-CS" sz="2400" spc="-1" strike="noStrike">
                <a:solidFill>
                  <a:srgbClr val="e4b038"/>
                </a:solidFill>
                <a:latin typeface="Arial"/>
                <a:ea typeface="Arial"/>
              </a:rPr>
              <a:t> - </a:t>
            </a:r>
            <a:r>
              <a:rPr b="0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za ovaj projekat u 2014. opredijeljena su sredstva u iznosu o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,1 milion eura</a:t>
            </a:r>
            <a:r>
              <a:rPr b="1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 od čega s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 miliona eura </a:t>
            </a:r>
            <a:r>
              <a:rPr b="0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odnose na nastavak eksproprijacije zemljišta za dionicu Smokovac –Mateševo i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,1 milion</a:t>
            </a:r>
            <a:r>
              <a:rPr b="0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 za dopunu  projektne dokumentacije i izradu Elaborata koje je potrebno uraditi prije početka radov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286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Putni prelazi (pruga Nikšić – Podgorica) ukupne vrijednosti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miliona eura</a:t>
            </a:r>
            <a:r>
              <a:rPr b="1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, ovim sredstvima planirani su radovi na izgradnji 3 podvožnjak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Pažići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Ždrebaonik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Spu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kao i izgradnja pristupnih saobraćajn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286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i="1" lang="en-US" sz="2200" spc="-1" strike="noStrike">
                <a:solidFill>
                  <a:srgbClr val="e4b038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Program rekonstrukcije raskrsnica ukupne vrijednosti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,2 miliona eura</a:t>
            </a:r>
            <a:r>
              <a:rPr b="1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  obuhvatiće rekonstrukciju sljedećih raskrsnica</a:t>
            </a:r>
            <a:r>
              <a:rPr b="0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e4b038"/>
                </a:solidFill>
                <a:latin typeface="Arial"/>
                <a:ea typeface="Arial"/>
              </a:rPr>
              <a:t>raskrsnica na magistralnom putu M-2 lokalitet </a:t>
            </a:r>
            <a:r>
              <a:rPr b="0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B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e4b038"/>
                </a:solidFill>
                <a:latin typeface="Arial"/>
                <a:ea typeface="Arial"/>
              </a:rPr>
              <a:t>raskrsnica na magistralnom putu M-2.1 </a:t>
            </a:r>
            <a:r>
              <a:rPr b="0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u Bijelom Polju (ukrsni putni pravci: M-2.1 i zaobilaznica Bijelog Polja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raskrsnica na ulazu u Mojkova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raskrsnica na magistralnom putu M-2.4, lokalitet Sutom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01:46:13Z</dcterms:created>
  <dc:creator>Srdjan Kusovac</dc:creator>
  <dc:description/>
  <dc:language>en-US</dc:language>
  <cp:lastModifiedBy>aleksandar.djukic</cp:lastModifiedBy>
  <dcterms:modified xsi:type="dcterms:W3CDTF">2014-03-06T10:19:42Z</dcterms:modified>
  <cp:revision>110</cp:revision>
  <dc:subject/>
  <dc:title>VLADA CRNE GORE  Savjet za privatizaciju i kapitalne projekte</dc:title>
</cp:coreProperties>
</file>